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D15-C489-43EB-9948-FE212400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9F1-9007-4A80-A3A6-87962C3D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B10-8686-441B-9EFD-3735D46D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C86-F040-4F82-9865-392F9629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9821-6A24-42ED-8A41-C90F475B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4407-06F5-4C6F-AA3B-2A7F9DC5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08E9-0812-46A6-AF50-7F42256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3443-04C4-42FC-89C1-EB7CFB9F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D5E2-CE66-4FFD-9D86-99EEC2E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853-AE9B-471C-8A4F-26C1F291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FF8-EE7B-4911-A36C-204DD622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A75-CD71-4065-81AF-146A5033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9ED1-2ED7-49A5-9EF5-6E15738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BE33-40B0-4DBB-ABA7-9443007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24C1-4DB9-4AF6-AB14-4E785E2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EBA7-DA03-42AB-BE0E-1960854C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7CF-C4C4-44C1-8E8F-24F8FDCE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7DA-0EF3-412C-B162-6CC20150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79A-108A-406E-AC54-2920C23C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E3B-AC3F-4260-98C0-04CF8CF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E18-CBD7-4BCB-9DEA-F1C033EB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D9B-DDC8-439B-9DEA-54BA865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9D8-04A6-4273-8054-4CB30CF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564-8D4C-4503-9D94-BE8231E2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B1A-0D84-41D5-ACF0-FD95CA283D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33ED-C8EA-48A0-8DAB-C0FC03072A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Jephthah vs.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Ammonite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ges 10:6 - 11: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ges 82 -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o and possess the land your god, Chemosh, gave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homsoever the Lord our God shall drive out from before us, them will we possess.”   v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has possessed this land for 300 years, why are you now trying to get the l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judge this day between Israel and A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did not accept his reasoning  v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spirit came upon Jephthah  v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vow  v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defeats the Ammonites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much given about the battle but it was a great slaught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Vo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Worships False Gods Aga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6-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im, Ashtaroth, gods of Syria, gods of Zidon, gods of Moab, gods of Ammon, gods of Philistines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e the one true Go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ngry, God gave them over to the Philistines and the Ammonites  v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ressed 18 years  v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focus now is on the Ammo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“Cried Unto The Lord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10-1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gods (idols) were put away, they confessed their sins, and asked for deliverance  v10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ears their cry  v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gathered against Israel at Gilead  v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in Israel asked: Who will fight against the Ammonites?  v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Ma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-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 of valor (brave, courage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ileadite, son of Gilead and a har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n from home by the legitimate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land of Tob (East of Sea of Galil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freebooters (pi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a bold and successful captain for the people of Gilea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out Gilead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cky, mountainous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f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of Bas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of the Arabian plat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of Moab and A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ation: between 2,000 – 3,000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d for its balm (a fragrant and healing ointment) collected from “balm of Gilead” trees and was worth twice its weight in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7908800">
            <a:off x="3563640" y="306612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i l e a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4495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86400" y="44197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2743200"/>
            <a:ext cx="1447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9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T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1143000"/>
            <a:ext cx="19810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Deliverer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4-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brought back to Gilead  v4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rs of Gilead made a deal with Jephthah  v6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was conditional  v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made him head and captain over them  v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574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752480"/>
            <a:ext cx="8839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negotiations with the Ammonit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essage to the king of Amm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you want to fight against the Israeli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’s re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took the land from us when they came out of Egypt!  Restore the land peaceab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made another appeal  v14-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never took any land from A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om, Moab and Amorites refused passage to Israel, but the Amorites (Sihon their king) started a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had delivered the land of the Amorites into the hand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phthah cites historical precedents against them invading under these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4:51Z</dcterms:created>
  <dc:creator>Frank D Vines</dc:creator>
  <dc:description/>
  <dc:language>en-US</dc:language>
  <cp:lastModifiedBy>Terry Benton</cp:lastModifiedBy>
  <dcterms:modified xsi:type="dcterms:W3CDTF">2005-02-15T17:06:48Z</dcterms:modified>
  <cp:revision>21</cp:revision>
  <dc:subject/>
  <dc:title>Slide 1</dc:title>
</cp:coreProperties>
</file>